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264A-79FC-481D-9D1B-7BE37BCC3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EF7-D329-4046-AF30-6033E34A1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B4A5-AC58-4033-8097-71F5279C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59A0-7BC0-4ED7-92BA-05416A2C3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B5DB-BDE1-477A-962F-D62B57FCC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5C5A-CD4B-4C61-83FF-A26370E41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125E-4705-4195-8A64-14A9E1923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2CD3-234E-4FD3-B7BD-3709ACAC5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7AB5-0FFA-4D85-990F-74CAE9E1A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D5CF-6A3D-4FA7-A915-0B665B33B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30B6-F63E-4F8D-98F0-4246D3900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33A1-5ABD-4D42-AC2B-671371189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057F9-89D6-45EF-8511-BFB356C21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FORMACIÓN DEL PRESENTE DE INDICATIV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26560" y="2204640"/>
            <a:ext cx="76964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6600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600cc"/>
                </a:solidFill>
                <a:uFillTx/>
                <a:latin typeface="Arial"/>
              </a:rPr>
              <a:t>1ª Y 2ª CONJUGACIÓN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37800" y="4653000"/>
            <a:ext cx="4915800" cy="307080"/>
          </a:xfrm>
          <a:prstGeom prst="rect">
            <a:avLst/>
          </a:prstGeom>
          <a:solidFill>
            <a:srgbClr val="99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RAÍZ + </a:t>
            </a:r>
            <a:r>
              <a:rPr b="1" lang="en-US" sz="1400" spc="-1" strike="noStrike">
                <a:solidFill>
                  <a:srgbClr val="ff3300"/>
                </a:solidFill>
                <a:latin typeface="Comic Sans MS"/>
              </a:rPr>
              <a:t>VOCAL DE UNIÓN +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DESINENCIA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86320" y="3668760"/>
            <a:ext cx="419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6600cc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600cc"/>
                </a:solidFill>
                <a:uFillTx/>
                <a:latin typeface="Comic Sans MS"/>
              </a:rPr>
              <a:t>3ª Y 4ª CONJUGACIÓ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3560" y="3068640"/>
            <a:ext cx="3166200" cy="307080"/>
          </a:xfrm>
          <a:prstGeom prst="rect">
            <a:avLst/>
          </a:prstGeom>
          <a:solidFill>
            <a:srgbClr val="99cc00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mic Sans MS"/>
              </a:rPr>
              <a:t>RAÍZ + </a:t>
            </a:r>
            <a:r>
              <a:rPr b="1" lang="en-US" sz="1400" spc="-1" strike="noStrike">
                <a:solidFill>
                  <a:srgbClr val="009900"/>
                </a:solidFill>
                <a:latin typeface="Comic Sans MS"/>
              </a:rPr>
              <a:t>DESINENCIAS PERSON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       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SENTE DE INDIC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2381400" y="2244600"/>
          <a:ext cx="4417560" cy="3792240"/>
        </p:xfrm>
        <a:graphic>
          <a:graphicData uri="http://schemas.openxmlformats.org/drawingml/2006/table">
            <a:tbl>
              <a:tblPr/>
              <a:tblGrid>
                <a:gridCol w="2077200"/>
                <a:gridCol w="2340360"/>
              </a:tblGrid>
              <a:tr h="69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1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2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0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MA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MONE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ONSEJ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2225520" y="1887480"/>
          <a:ext cx="5070240" cy="3827160"/>
        </p:xfrm>
        <a:graphic>
          <a:graphicData uri="http://schemas.openxmlformats.org/drawingml/2006/table">
            <a:tbl>
              <a:tblPr/>
              <a:tblGrid>
                <a:gridCol w="1681920"/>
                <a:gridCol w="1804680"/>
                <a:gridCol w="1583640"/>
              </a:tblGrid>
              <a:tr h="69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3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mix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4ª conjugació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3135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DUC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U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DUC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CAPI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U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G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MU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T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cc"/>
                          </a:solidFill>
                          <a:latin typeface="Arial"/>
                        </a:rPr>
                        <a:t>AUDI-</a:t>
                      </a:r>
                      <a:r>
                        <a:rPr b="1" lang="en-US" sz="1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U-</a:t>
                      </a:r>
                      <a:r>
                        <a:rPr b="1" lang="en-US" sz="1600" spc="-1" strike="noStrike">
                          <a:solidFill>
                            <a:srgbClr val="009900"/>
                          </a:solidFill>
                          <a:latin typeface="Arial"/>
                        </a:rPr>
                        <a:t>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YE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73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63280" y="404280"/>
            <a:ext cx="597708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PRESENTE DE INDICATIVO</a:t>
            </a:r>
            <a:br>
              <a:rPr sz="24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411120" y="1928880"/>
            <a:ext cx="99662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411120" y="1928880"/>
            <a:ext cx="9966240" cy="36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0" y="0"/>
          <a:ext cx="9145440" cy="6858000"/>
        </p:xfrm>
        <a:graphic>
          <a:graphicData uri="http://schemas.openxmlformats.org/drawingml/2006/table">
            <a:tbl>
              <a:tblPr/>
              <a:tblGrid>
                <a:gridCol w="1042920"/>
                <a:gridCol w="1397160"/>
                <a:gridCol w="1841400"/>
                <a:gridCol w="1685880"/>
                <a:gridCol w="1495440"/>
                <a:gridCol w="1682640"/>
              </a:tblGrid>
              <a:tr h="1419120">
                <a:tc grid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PRESENTE DE INDICATIVO</a:t>
                      </a:r>
                      <a:r>
                        <a:rPr b="1" lang="en-US" sz="24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2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ª Conj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onj. mixt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129672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singul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-o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(yo amo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830160">
                <a:tc row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9999"/>
                          </a:solidFill>
                          <a:latin typeface="Times New Roman"/>
                          <a:ea typeface="Times New Roman"/>
                        </a:rPr>
                        <a:t>plur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20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i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719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ma-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mone-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reg-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audi-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cc3300"/>
                          </a:solidFill>
                          <a:latin typeface="Times New Roman"/>
                          <a:ea typeface="Times New Roman"/>
                        </a:rPr>
                        <a:t>capi-u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11111"/>
                      </a:solidFill>
                    </a:lnL>
                    <a:lnR w="5760">
                      <a:solidFill>
                        <a:srgbClr val="111111"/>
                      </a:solidFill>
                    </a:lnR>
                    <a:lnT w="5760">
                      <a:solidFill>
                        <a:srgbClr val="111111"/>
                      </a:solidFill>
                    </a:lnT>
                    <a:lnB w="5760">
                      <a:solidFill>
                        <a:srgbClr val="111111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E DE INDIC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57200" y="1600200"/>
          <a:ext cx="8229600" cy="453060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4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VERBO SUM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-U-M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S-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-U-MU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8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ES-TI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626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6600cc"/>
                          </a:solidFill>
                          <a:latin typeface="Arial"/>
                        </a:rPr>
                        <a:t>S-U-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8T11:13:56Z</dcterms:created>
  <dc:creator>IES</dc:creator>
  <dc:description/>
  <dc:language>en-US</dc:language>
  <cp:lastModifiedBy>IES</cp:lastModifiedBy>
  <dcterms:modified xsi:type="dcterms:W3CDTF">2010-05-18T11:26:56Z</dcterms:modified>
  <cp:revision>3</cp:revision>
  <dc:subject/>
  <dc:title>Diapositiva 1</dc:title>
</cp:coreProperties>
</file>